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188E-0CB7-4122-9CE6-091FC9484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05ED-2DB8-4704-A187-11498DDC6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786D-D537-4753-BB69-DDB7C1361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BCEE-9892-4EB3-B298-7D25298CA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4D4F-4B81-4082-8436-D32A40885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05EF3-9E9E-4B2C-9D87-3C3F4246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8146D-354A-41CB-9CE8-8E84537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829F1-3C26-4F48-8C9F-635FA813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165AE-6E9B-47FA-9891-33B3338F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569C0-B2A0-4061-9559-5D41E07B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C1AA-2273-46C7-BA4E-A6B52AA776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8137E-ED95-470D-9E9E-0781B0A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0D109-D763-4FD1-BECA-553E7E05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D2F0B-708F-4355-B4C4-C411F20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D3FD4-E233-4350-891A-F2C4CDA1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01DAD-6135-4EDB-89E4-4EB0F30B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65EB8-DABE-4C3C-A998-133141AC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4576F-0646-413D-BC68-EE2DE88B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955F-9571-4A63-9C01-9432152E4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1B31-9BC4-4C79-A0AF-05E3ED7DC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0B72-EFC2-4066-8466-4D112D823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AE85-E34E-4892-873E-1A33092FC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B9DC-D5E1-43CE-AFEA-CDC927C4C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24D8-017A-4FA2-97DD-74337B1E0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0625-6C2B-4A31-893C-F16348CA0F67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5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6CB9-D1E8-4914-AB7C-8BC4A8590C05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127" name="Título 1"/>
          <p:cNvSpPr/>
          <p:nvPr/>
        </p:nvSpPr>
        <p:spPr>
          <a:xfrm>
            <a:off x="1771560" y="2565360"/>
            <a:ext cx="662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503b"/>
                </a:solidFill>
                <a:latin typeface="Calibri"/>
              </a:rPr>
              <a:t>PROGRAMA DE QUALIFICAÇÃO DE OPERADORAS- IDSS 2016 (ANO BASE 2015) – RESULTADO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EEIQ - D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Setembro/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2FF8-7E6E-47D7-A056-3150EBE77E8C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63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65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67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69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6c50"/>
                </a:solidFill>
                <a:uFillTx/>
                <a:latin typeface="Calibri"/>
              </a:rPr>
              <a:t>Divulgação dos Resultados Ano-base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173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Primeiro processamento do Programa restruturado com novas dimens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Divulgação em 20/06/2016 exclusivamente para as 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Prazo de 21 dias para questionamentos via OTRS – sistema desenvolvido pela 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661 solicit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526 questiona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135 pedidos de esclareci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Mais de 5X o total do ano base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Concentração dos questionamentos na dimensão Qualidade em Atenção à Saúde - novos indicadores e problemas operacionais que envolveram a recepção dos dados do SI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006c50"/>
                </a:solidFill>
                <a:uFillTx/>
                <a:latin typeface="Calibri"/>
              </a:rPr>
              <a:t>Fase de Questiona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m 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6697800" cy="212724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6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7202520" cy="2160720"/>
          </a:xfrm>
          <a:prstGeom prst="rect">
            <a:avLst/>
          </a:prstGeom>
          <a:ln w="0">
            <a:noFill/>
          </a:ln>
        </p:spPr>
      </p:pic>
      <p:sp>
        <p:nvSpPr>
          <p:cNvPr id="136" name="CaixaDeTexto 1"/>
          <p:cNvSpPr/>
          <p:nvPr/>
        </p:nvSpPr>
        <p:spPr>
          <a:xfrm>
            <a:off x="2997360" y="1187280"/>
            <a:ext cx="364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Do total de 661 solicitações</a:t>
            </a:r>
            <a:r>
              <a:rPr b="0" lang="pt-BR" sz="1800" spc="-1" strike="noStrike">
                <a:solidFill>
                  <a:srgbClr val="4f81b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Distribuição das Operadoras por faixas do IDSS em 2016 (ano-base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Imagem 1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6038640" cy="4941720"/>
          </a:xfrm>
          <a:prstGeom prst="rect">
            <a:avLst/>
          </a:prstGeom>
          <a:ln w="0">
            <a:noFill/>
          </a:ln>
        </p:spPr>
      </p:pic>
      <p:sp>
        <p:nvSpPr>
          <p:cNvPr id="140" name="CaixaDeTexto 3"/>
          <p:cNvSpPr/>
          <p:nvPr/>
        </p:nvSpPr>
        <p:spPr>
          <a:xfrm>
            <a:off x="6730920" y="2276640"/>
            <a:ext cx="1955880" cy="19191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Foram retiradas as 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em Direção Fiscal, em Direção Técnica, canceladas ou em processo de cancel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Número de ops com IDSS: 1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Retiradas: 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c50"/>
                </a:solidFill>
                <a:latin typeface="Calibri"/>
              </a:rPr>
              <a:t>Total: 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Porcentagem de beneficiários segundo o IDSS das Operadoras, por segmento, segundo as faixas do IDSS em 2016 (ano-base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5"/>
          <p:cNvSpPr/>
          <p:nvPr/>
        </p:nvSpPr>
        <p:spPr>
          <a:xfrm>
            <a:off x="900000" y="537372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Mais de 90% (50,3% + 44,3%) dos beneficiários da saúde suplementar estão em OPS classificadas nas melhores faixas do I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áfico 9" descr=""/>
          <p:cNvPicPr/>
          <p:nvPr/>
        </p:nvPicPr>
        <p:blipFill>
          <a:blip r:embed="rId1"/>
          <a:stretch/>
        </p:blipFill>
        <p:spPr>
          <a:xfrm>
            <a:off x="420840" y="1987560"/>
            <a:ext cx="80406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Evolução das operadoras nas faixas do IDSS entre o ano base 2014 e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áfico 5" descr=""/>
          <p:cNvPicPr/>
          <p:nvPr/>
        </p:nvPicPr>
        <p:blipFill>
          <a:blip r:embed="rId1"/>
          <a:stretch/>
        </p:blipFill>
        <p:spPr>
          <a:xfrm>
            <a:off x="609480" y="1987560"/>
            <a:ext cx="7991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ixaDeTexto 8"/>
          <p:cNvSpPr/>
          <p:nvPr/>
        </p:nvSpPr>
        <p:spPr>
          <a:xfrm>
            <a:off x="6006960" y="1557360"/>
            <a:ext cx="313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1"/>
          <p:cNvSpPr/>
          <p:nvPr/>
        </p:nvSpPr>
        <p:spPr>
          <a:xfrm>
            <a:off x="608040" y="5541840"/>
            <a:ext cx="619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bs. Em 2015 considerou-se apenas as operadoras que não estão em Direção Fiscal, Direção Técnica e em processo de cancelament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3"/>
          <p:cNvSpPr/>
          <p:nvPr/>
        </p:nvSpPr>
        <p:spPr>
          <a:xfrm>
            <a:off x="250920" y="5916600"/>
            <a:ext cx="82818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c50"/>
                </a:solidFill>
                <a:latin typeface="Calibri"/>
              </a:rPr>
              <a:t>Elevação da média ponderada do IDSS do setor em função do crescimento do IDSS de grandes operadora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áfico 8" descr=""/>
          <p:cNvPicPr/>
          <p:nvPr/>
        </p:nvPicPr>
        <p:blipFill>
          <a:blip r:embed="rId1"/>
          <a:stretch/>
        </p:blipFill>
        <p:spPr>
          <a:xfrm>
            <a:off x="244440" y="1262160"/>
            <a:ext cx="8077320" cy="2030400"/>
          </a:xfrm>
          <a:prstGeom prst="rect">
            <a:avLst/>
          </a:prstGeom>
          <a:ln w="0">
            <a:noFill/>
          </a:ln>
        </p:spPr>
      </p:pic>
      <p:pic>
        <p:nvPicPr>
          <p:cNvPr id="153" name="Gráfico 10" descr=""/>
          <p:cNvPicPr/>
          <p:nvPr/>
        </p:nvPicPr>
        <p:blipFill>
          <a:blip r:embed="rId2"/>
          <a:stretch/>
        </p:blipFill>
        <p:spPr>
          <a:xfrm>
            <a:off x="201600" y="3425760"/>
            <a:ext cx="81201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Resultados Ano-base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Evolução da média ponderada do IDSS das operadoras com acreditação em setembro de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m 3" descr=""/>
          <p:cNvPicPr/>
          <p:nvPr/>
        </p:nvPicPr>
        <p:blipFill>
          <a:blip r:embed="rId1"/>
          <a:stretch/>
        </p:blipFill>
        <p:spPr>
          <a:xfrm>
            <a:off x="973080" y="2230560"/>
            <a:ext cx="7197840" cy="2243160"/>
          </a:xfrm>
          <a:prstGeom prst="rect">
            <a:avLst/>
          </a:prstGeom>
          <a:ln w="0">
            <a:noFill/>
          </a:ln>
        </p:spPr>
      </p:pic>
      <p:sp>
        <p:nvSpPr>
          <p:cNvPr id="157" name="Retângulo 5"/>
          <p:cNvSpPr/>
          <p:nvPr/>
        </p:nvSpPr>
        <p:spPr>
          <a:xfrm>
            <a:off x="900000" y="494172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Há uma relação entre acreditação e IDSS em faix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c50"/>
                </a:solidFill>
                <a:latin typeface="Calibri"/>
              </a:rPr>
              <a:t>Demonstra harmonia entre diferentes medidas de qualificação das operadoras desenvolvidas pela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Próximos Pas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aixaDeTexto 2"/>
          <p:cNvSpPr/>
          <p:nvPr/>
        </p:nvSpPr>
        <p:spPr>
          <a:xfrm>
            <a:off x="287280" y="1989000"/>
            <a:ext cx="88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</a:rPr>
              <a:t>Divulgação dos Resultados no Portal da ANS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  <a:ea typeface="Arial"/>
              </a:rPr>
              <a:t>Início da fase recursal dos resultados ano-base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  <a:ea typeface="Arial"/>
              </a:rPr>
              <a:t>Definição dos indicadores para o ano-bas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c50"/>
                </a:solidFill>
                <a:latin typeface="Calibri"/>
                <a:ea typeface="Arial"/>
              </a:rPr>
              <a:t>Divulgação da proposta do ano-base 2017 aos representantes do mercado até dezembro de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c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Ana Paula Silva Cavalcante</cp:lastModifiedBy>
  <dcterms:modified xsi:type="dcterms:W3CDTF">2016-09-19T16:43:12Z</dcterms:modified>
  <cp:revision>134</cp:revision>
  <dc:subject/>
  <dc:title>Slide 1</dc:title>
</cp:coreProperties>
</file>